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7BA-9401-4778-8A33-5BC43DAD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ED8-3549-41D6-A21A-FD901BA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1A6-13EA-4100-9401-E2701A5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F0E-EDFB-47A6-82FF-D5AD2060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1BD-7757-44C3-91AD-5B97E8FE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7F2-FD11-4A30-A8A8-3625993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0EE-6F19-4769-96CC-AFEF9832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794-EF5B-4CDA-8840-FFFACA0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BA34-ED7C-474A-B8F7-5FCB2B7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35A5-EBD8-4673-BB40-9BD0572F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FFA-A2B0-4847-9607-EDCD670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455-814E-457F-8342-758D4AB4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A04F-358D-44A7-9A58-D2CF4FA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829E-D1A6-4AB2-B32F-0C21DAE3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3683-C3B8-482D-A480-1E563D2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F176-84DF-463F-AEF6-E99A8A60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379-AD5E-439E-91F6-605CB3D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7FB3-E4E3-41E1-8362-FBD204DF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4F59-60E1-4493-A201-882EAFF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0E30-58DE-4A46-8406-AAE219B5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DEC7-9154-4BFD-8B82-072D4B8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D05A-E460-49FB-865A-88E8205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B4D-E6A5-46AC-AF57-D510DEA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CC34-1B09-481A-BF63-C2C754B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5B55-A5BC-4567-B3B8-0B01B93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9513-D68F-47FB-A1BD-8421FB4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C100-6F86-4587-B52B-50474FA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5CE9-19F6-4587-98E7-E4CF00EA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EA84-EA3C-46E2-B7BD-91CB68CA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7214-1608-4969-882E-EAC1A601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8C98-D567-4F1B-B195-9A4F8982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A0E1-02C7-4DF9-B8A4-FCC6AA36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B9C0-8B90-47B3-97E7-D40AA2D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BFB-8CC2-482E-BD86-BF6B3212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5D28-839B-415C-84A8-F3337FA4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2E9D-2BCA-4857-8177-469C3E9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37A8-FBC8-4957-957A-5B388CE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5DFA-A14D-48D5-8B3E-21CC973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56E0-A456-4675-81D0-AA1AFDE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DA87-D6DF-4DE9-8719-7B73BCA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5668-3D24-4408-8037-4CF3144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8574-2195-49EF-9470-85FB9D5F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5BB8-50F1-4D99-8438-10E69EEA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512A-0BC1-4C83-8D06-2C8230FF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10F-CD54-44B0-B471-4E88309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29F1-CB9E-4ADA-9BF3-A39D9155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3A7E-7162-4EAB-BC52-4C3C9D8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5979C-BD2A-4101-9756-690F8475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15CD-0D32-40D3-8300-07A4D76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34BB-981F-4AE1-8DAE-3195DAA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4D0D-4187-4E0E-845A-26ADD9D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EC690-59F8-4643-8CDA-21FB553D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95B27-1345-484B-8272-0E14EB9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EBF2-2DC8-4947-9303-ACFA6A54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0456-C4B4-4EFF-A05D-21A64F83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F33-DCBC-4EB1-AC98-3282768A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DFD7-4D20-43B7-AD67-E14FAA1E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F9B4-5D50-4F91-AAAB-26C677FE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0660-9B46-4995-ACAC-8C23CD4C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7F08-99AA-42FC-89A3-E90AFF0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DB7F-94F5-43B3-867E-48E45B1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EB34-FA67-48DA-AB9C-86DFE9C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571C5-1D7D-4536-B7AE-25CAC62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E4E5-0977-4433-A73A-0CAD3A6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46FD3-EDB8-4704-ACDF-645914C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8824-93BC-4B31-961D-2E86E12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0C0-963B-4D33-BC17-4CEFDFB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B179-2093-47E8-A0C6-5CDAE54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7127-8A21-46D3-A308-E29586DE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53FE-ACD9-4535-BE5E-32C59F6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B03C-2EC3-453E-BF1D-75D4E1B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91E9-3055-455B-8602-E14437E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6459A-1978-4E0F-8FA7-4EA5FAB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6496-6F9B-4785-9AB2-AD1176C2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0390-6555-4D9F-929C-EF292DE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E7829-60DC-4EA5-9773-BEA4CF6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2B99-57FC-4CF0-997A-F6E440A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02B-33A7-4C3C-9C04-7EF5CC0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69C5-7AE0-416C-8E3E-9A47D4F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6405-F4EE-42CF-8BD3-69993ED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BE0F-B7F0-43C0-842A-3B35B47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04FAB-D506-44BC-A1D7-7EBE45E2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2E68C-3895-4860-9B6C-0675BC01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B3E-68F3-4035-AA4A-A7466A2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7F6D-2792-45FF-8AB9-AE27744CC4C9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1D85-FA39-4FBF-91B5-44799D8FD1C4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71F5-3AED-4308-99A8-A580E46F6D41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ED5-F409-4BE9-8A95-39BF9FA7CF3D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7B3-130A-4C3C-A165-A206626CC1B1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B91-6DA1-4380-B838-EC5E7ABFC3CC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F44-7572-4B40-9537-081D0571A932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4360" y="2133360"/>
            <a:ext cx="74059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45e70"/>
                </a:solidFill>
                <a:latin typeface="Gill Sans MT"/>
              </a:rPr>
              <a:t>Rodzina</a:t>
            </a:r>
            <a:endParaRPr b="0" lang="en-US" sz="60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4" descr="C:\Users\Darek\Desktop\dół.jpg"/>
          <p:cNvPicPr/>
          <p:nvPr/>
        </p:nvPicPr>
        <p:blipFill>
          <a:blip r:embed="rId1"/>
          <a:stretch/>
        </p:blipFill>
        <p:spPr>
          <a:xfrm>
            <a:off x="1908000" y="4724280"/>
            <a:ext cx="5761080" cy="1401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Users\Darek\Desktop\góra.jpg"/>
          <p:cNvPicPr/>
          <p:nvPr/>
        </p:nvPicPr>
        <p:blipFill>
          <a:blip r:embed="rId2"/>
          <a:stretch/>
        </p:blipFill>
        <p:spPr>
          <a:xfrm>
            <a:off x="2050920" y="549360"/>
            <a:ext cx="576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Przysłowia o rodzini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ojciec taki syn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Gdy rodzina żyje w zgodzie, to jej bieda nie dobodzie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oli ojciec syna, niż córkę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nuk za dziadka nie odpowiad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ród, taki płód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Każda siostra braciom niosł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 my tacie, tak tata nam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az 3" descr="cheering-297419_640.png"/>
          <p:cNvPicPr/>
          <p:nvPr/>
        </p:nvPicPr>
        <p:blipFill>
          <a:blip r:embed="rId1"/>
          <a:stretch/>
        </p:blipFill>
        <p:spPr>
          <a:xfrm>
            <a:off x="1523880" y="1252440"/>
            <a:ext cx="6793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mrok\Desktop\SKU\05_Eurokreator\01_materiały na platformę_ostateczne_2014\materiały_SKU\multimedia_zdjęcia na platformie\Zdjęcia\16_Moj dom, moja rodzina\16_zdjecie10.JPG"/>
          <p:cNvPicPr/>
          <p:nvPr/>
        </p:nvPicPr>
        <p:blipFill>
          <a:blip r:embed="rId1"/>
          <a:stretch/>
        </p:blipFill>
        <p:spPr>
          <a:xfrm>
            <a:off x="2700360" y="1268280"/>
            <a:ext cx="36892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łe dzieci - mały kłopot, duże dzieci duży kłop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Najtrudniej jest być tolerancyjnym wobec najbliższy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Brudy pierze się w dom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tka rozumie mowę swojego niemego dzieck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iłość matczyna się nie starze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ężczyźni budują domy, ale to kobiety je tworz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Kalendarz rodzin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Babci – 21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adka – 22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Matki – 26 m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Ojca – 23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ecka – 1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1" descr="duck-550539_640.jpg"/>
          <p:cNvPicPr/>
          <p:nvPr/>
        </p:nvPicPr>
        <p:blipFill>
          <a:blip r:embed="rId1"/>
          <a:stretch/>
        </p:blipFill>
        <p:spPr>
          <a:xfrm>
            <a:off x="6084720" y="4821120"/>
            <a:ext cx="3059280" cy="2036880"/>
          </a:xfrm>
          <a:prstGeom prst="rect">
            <a:avLst/>
          </a:prstGeom>
          <a:ln w="0">
            <a:noFill/>
          </a:ln>
        </p:spPr>
      </p:pic>
      <p:pic>
        <p:nvPicPr>
          <p:cNvPr id="364" name="Obraz 2" descr="family-276168_640.jpg"/>
          <p:cNvPicPr/>
          <p:nvPr/>
        </p:nvPicPr>
        <p:blipFill>
          <a:blip r:embed="rId2"/>
          <a:stretch/>
        </p:blipFill>
        <p:spPr>
          <a:xfrm>
            <a:off x="3419640" y="4149720"/>
            <a:ext cx="2682720" cy="2538360"/>
          </a:xfrm>
          <a:prstGeom prst="rect">
            <a:avLst/>
          </a:prstGeom>
          <a:ln w="0">
            <a:noFill/>
          </a:ln>
        </p:spPr>
      </p:pic>
      <p:pic>
        <p:nvPicPr>
          <p:cNvPr id="365" name="Obraz 3" descr="koala-61189_640.jpg"/>
          <p:cNvPicPr/>
          <p:nvPr/>
        </p:nvPicPr>
        <p:blipFill>
          <a:blip r:embed="rId3"/>
          <a:stretch/>
        </p:blipFill>
        <p:spPr>
          <a:xfrm>
            <a:off x="0" y="2276640"/>
            <a:ext cx="3419640" cy="2493720"/>
          </a:xfrm>
          <a:prstGeom prst="rect">
            <a:avLst/>
          </a:prstGeom>
          <a:ln w="0">
            <a:noFill/>
          </a:ln>
        </p:spPr>
      </p:pic>
      <p:pic>
        <p:nvPicPr>
          <p:cNvPr id="366" name="Obraz 4" descr="mare-430442_640.jpg"/>
          <p:cNvPicPr/>
          <p:nvPr/>
        </p:nvPicPr>
        <p:blipFill>
          <a:blip r:embed="rId4"/>
          <a:stretch/>
        </p:blipFill>
        <p:spPr>
          <a:xfrm>
            <a:off x="6084720" y="2997360"/>
            <a:ext cx="3059280" cy="1850760"/>
          </a:xfrm>
          <a:prstGeom prst="rect">
            <a:avLst/>
          </a:prstGeom>
          <a:ln w="0">
            <a:noFill/>
          </a:ln>
        </p:spPr>
      </p:pic>
      <p:pic>
        <p:nvPicPr>
          <p:cNvPr id="367" name="Obraz 5" descr="tiger-591359_640.jpg"/>
          <p:cNvPicPr/>
          <p:nvPr/>
        </p:nvPicPr>
        <p:blipFill>
          <a:blip r:embed="rId5"/>
          <a:stretch/>
        </p:blipFill>
        <p:spPr>
          <a:xfrm>
            <a:off x="0" y="4749840"/>
            <a:ext cx="3419640" cy="2108160"/>
          </a:xfrm>
          <a:prstGeom prst="rect">
            <a:avLst/>
          </a:prstGeom>
          <a:ln w="0">
            <a:noFill/>
          </a:ln>
        </p:spPr>
      </p:pic>
      <p:pic>
        <p:nvPicPr>
          <p:cNvPr id="368" name="Obraz 6" descr="young-animal-450149_640.jpg"/>
          <p:cNvPicPr/>
          <p:nvPr/>
        </p:nvPicPr>
        <p:blipFill>
          <a:blip r:embed="rId6"/>
          <a:stretch/>
        </p:blipFill>
        <p:spPr>
          <a:xfrm>
            <a:off x="6084720" y="0"/>
            <a:ext cx="3059280" cy="3041640"/>
          </a:xfrm>
          <a:prstGeom prst="rect">
            <a:avLst/>
          </a:prstGeom>
          <a:ln w="0">
            <a:noFill/>
          </a:ln>
        </p:spPr>
      </p:pic>
      <p:pic>
        <p:nvPicPr>
          <p:cNvPr id="369" name="Obraz 8" descr="family-408842_640.jpg"/>
          <p:cNvPicPr/>
          <p:nvPr/>
        </p:nvPicPr>
        <p:blipFill>
          <a:blip r:embed="rId7"/>
          <a:stretch/>
        </p:blipFill>
        <p:spPr>
          <a:xfrm>
            <a:off x="3419640" y="2320920"/>
            <a:ext cx="2665080" cy="1839960"/>
          </a:xfrm>
          <a:prstGeom prst="rect">
            <a:avLst/>
          </a:prstGeom>
          <a:ln w="0">
            <a:noFill/>
          </a:ln>
        </p:spPr>
      </p:pic>
      <p:pic>
        <p:nvPicPr>
          <p:cNvPr id="370" name="Obraz 9" descr="elephants-474759_640 (1).jpg"/>
          <p:cNvPicPr/>
          <p:nvPr/>
        </p:nvPicPr>
        <p:blipFill>
          <a:blip r:embed="rId8"/>
          <a:srcRect l="0" t="17669" r="0" b="22008"/>
          <a:stretch/>
        </p:blipFill>
        <p:spPr>
          <a:xfrm>
            <a:off x="0" y="0"/>
            <a:ext cx="6095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Członkowie najbliższej rodzi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23" name="Symbol zastępczy zawartości 16" descr="family-469580_640.png"/>
          <p:cNvPicPr/>
          <p:nvPr/>
        </p:nvPicPr>
        <p:blipFill>
          <a:blip r:embed="rId1"/>
          <a:stretch/>
        </p:blipFill>
        <p:spPr>
          <a:xfrm>
            <a:off x="2843280" y="2565360"/>
            <a:ext cx="3552840" cy="2508120"/>
          </a:xfrm>
          <a:prstGeom prst="rect">
            <a:avLst/>
          </a:prstGeom>
          <a:ln w="0">
            <a:noFill/>
          </a:ln>
        </p:spPr>
      </p:pic>
      <p:sp>
        <p:nvSpPr>
          <p:cNvPr id="324" name="pole tekstowe 6"/>
          <p:cNvSpPr/>
          <p:nvPr/>
        </p:nvSpPr>
        <p:spPr>
          <a:xfrm>
            <a:off x="2411280" y="20606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5292720" y="198900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8"/>
          <p:cNvSpPr/>
          <p:nvPr/>
        </p:nvSpPr>
        <p:spPr>
          <a:xfrm>
            <a:off x="3643200" y="5429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668c4"/>
                </a:solidFill>
                <a:latin typeface="Calibri"/>
              </a:rPr>
              <a:t>dzie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ole tekstowe 143"/>
          <p:cNvSpPr/>
          <p:nvPr/>
        </p:nvSpPr>
        <p:spPr>
          <a:xfrm>
            <a:off x="1547640" y="458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cór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ole tekstowe 144"/>
          <p:cNvSpPr/>
          <p:nvPr/>
        </p:nvSpPr>
        <p:spPr>
          <a:xfrm>
            <a:off x="6300720" y="4508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s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145"/>
          <p:cNvSpPr/>
          <p:nvPr/>
        </p:nvSpPr>
        <p:spPr>
          <a:xfrm>
            <a:off x="3571920" y="61437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030a0"/>
                </a:solidFill>
                <a:latin typeface="Calibri"/>
              </a:rPr>
              <a:t>rodzeńs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46"/>
          <p:cNvSpPr/>
          <p:nvPr/>
        </p:nvSpPr>
        <p:spPr>
          <a:xfrm>
            <a:off x="3492360" y="141300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libri"/>
              </a:rPr>
              <a:t>rodz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500040" y="35002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dzia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7143840" y="34290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bab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2484360" y="1773360"/>
            <a:ext cx="4356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17" descr="old-40092_640.png"/>
          <p:cNvPicPr/>
          <p:nvPr/>
        </p:nvPicPr>
        <p:blipFill>
          <a:blip r:embed="rId2"/>
          <a:stretch/>
        </p:blipFill>
        <p:spPr>
          <a:xfrm>
            <a:off x="611280" y="1773360"/>
            <a:ext cx="1633320" cy="1698480"/>
          </a:xfrm>
          <a:prstGeom prst="rect">
            <a:avLst/>
          </a:prstGeom>
          <a:ln w="0">
            <a:noFill/>
          </a:ln>
        </p:spPr>
      </p:pic>
      <p:pic>
        <p:nvPicPr>
          <p:cNvPr id="335" name="Obraz 18" descr="grandma-486796_640.png"/>
          <p:cNvPicPr/>
          <p:nvPr/>
        </p:nvPicPr>
        <p:blipFill>
          <a:blip r:embed="rId3"/>
          <a:srcRect l="0" t="0" r="0" b="19295"/>
          <a:stretch/>
        </p:blipFill>
        <p:spPr>
          <a:xfrm>
            <a:off x="6804000" y="1844640"/>
            <a:ext cx="183348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4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am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żon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córka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4836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tat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ąż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syn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ytuł 1"/>
          <p:cNvSpPr/>
          <p:nvPr/>
        </p:nvSpPr>
        <p:spPr>
          <a:xfrm>
            <a:off x="4211640" y="189000"/>
            <a:ext cx="3614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37" descr="couple-307287_640.png"/>
          <p:cNvPicPr/>
          <p:nvPr/>
        </p:nvPicPr>
        <p:blipFill>
          <a:blip r:embed="rId1"/>
          <a:stretch/>
        </p:blipFill>
        <p:spPr>
          <a:xfrm>
            <a:off x="2268360" y="2849400"/>
            <a:ext cx="525636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42" name="Symbol zastępczy zawartości 3" descr="people-117198_640.png"/>
          <p:cNvPicPr/>
          <p:nvPr/>
        </p:nvPicPr>
        <p:blipFill>
          <a:blip r:embed="rId1"/>
          <a:stretch/>
        </p:blipFill>
        <p:spPr>
          <a:xfrm>
            <a:off x="2556000" y="692280"/>
            <a:ext cx="3681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Moja babcia” H. Niewiadom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55736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siaj nowoczesn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chodzić w ciepłych kapcia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 fotelu się nie buj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ylko wciąż po świecie hula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Samochodem dzieci wiezi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Z klocków lego robi wieżę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 drabinie się wdrap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pinistę naślad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robić już na druta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 Internecie bajek szu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ieczorami tańczy samb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yjada całą mambę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a basenie daje 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By dogonić płetwo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Od miesiąca, co niedziel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iłką nożną gole strzel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155700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adek ręce załamuj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- Babciu wracaj! - nawoł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Gdzie jest obiad i skarpet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aftowane gdzie serwety?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e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 wciąż jest młod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Ciągle marzy o przygodach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Lecz choć skarpet nie cer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upina z włosów ko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o swe wnuki, oraz dziad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nad własne życie koch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ziecko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yn             có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nuczek              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prawnuczek              pra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Obraz 7" descr="boy-160168_640.png"/>
          <p:cNvPicPr/>
          <p:nvPr/>
        </p:nvPicPr>
        <p:blipFill>
          <a:blip r:embed="rId1"/>
          <a:stretch/>
        </p:blipFill>
        <p:spPr>
          <a:xfrm>
            <a:off x="3276720" y="3573360"/>
            <a:ext cx="4103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Rodzina dalsz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Ciocia – siostra mamy lub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ujek – brat mam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k – brat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nka – żona stry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Kuzyn, Kuzynka – dzieci rodzeństwa rodzicó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Teściowie – rodzice męża lub żo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rzewo genealogiczn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52" name="Symbol zastępczy zawartości 3" descr="family-tree-297812_640.png"/>
          <p:cNvPicPr/>
          <p:nvPr/>
        </p:nvPicPr>
        <p:blipFill>
          <a:blip r:embed="rId1"/>
          <a:stretch/>
        </p:blipFill>
        <p:spPr>
          <a:xfrm>
            <a:off x="2195640" y="1268280"/>
            <a:ext cx="4854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om” Z. Beszczyń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om otwiera swoje cztery ścia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babci, dziadka, tatusia, mamy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nas wszystkich, dla gości, dla kota i psa…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48:19Z</dcterms:created>
  <dc:creator>TweakedXP</dc:creator>
  <dc:description/>
  <dc:language>en-US</dc:language>
  <cp:lastModifiedBy>Karolina Mróz</cp:lastModifiedBy>
  <dcterms:modified xsi:type="dcterms:W3CDTF">2015-01-21T10:31:11Z</dcterms:modified>
  <cp:revision>99</cp:revision>
  <dc:subject/>
  <dc:title>RODZINA</dc:title>
</cp:coreProperties>
</file>